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FDFA-8E3A-4ABF-97D5-B0DC4819390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0E2B-13DC-4FBB-AB1B-37C15C1A2E70}" type="slidenum">
              <a:rPr b="0" lang="pl-P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6336-3F1C-4AE8-8FAF-6BC2868D1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53AC-EA4A-44C6-BDEE-96C8837E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DAF2-1432-4F23-A90C-06EA285A3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4C7E-9730-4C6D-9F5B-433533120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E984-95A6-4A73-AB92-2BE73EA2D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E2C5-5477-4F99-8BDC-D96899FE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632C-86EF-42EB-AEAD-6E9CBBF0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A467-5A0E-4570-94D0-5C6EA0BF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A044D-9F3D-412E-954F-FCC26A4C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55AE-29FF-43D2-9A63-8B9A41CD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B44F-D97E-4EC0-B779-A6CFB7BE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B047-F0A3-474D-B490-4764AAF8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16C8-3DF7-4E0F-96B1-CD8930E7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1DE7-B3EE-4A53-9775-7169B203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6FFD-04F9-4735-A882-CEFA453C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5447-1F28-479B-A57C-2EC63B32B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DA63-057F-41F3-B455-62430842D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4FB72-E9F1-4E12-A3FE-AA037465E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36C17-670E-4C34-A8A8-DF405F53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687A2-38D1-4FD9-BAEC-5A4823E0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3B69C-B59A-4837-A89A-F138B622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FA3EE-4EC0-487E-B73D-915CA223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DB6A-5B7C-4C0A-ACDB-2257E5E2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BD43A-0FAC-4A48-A010-85488BD2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0EF71-7BF2-43D1-8111-7E03E4B7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B72A3-661A-4A6F-B0B4-E003A10A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F5D74-87B6-47EC-8F67-BE1B1E17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10E76-8397-4058-A3B4-2695236B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702AD-671D-48F7-ADAE-EE2E072B4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C4BD2-80CE-45A0-8C23-3FDC5D952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AA177-5645-4B8A-8B6E-7D82E79C2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E5329-7E2F-4B02-82AB-913AEBA1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5C8B7-9492-4A15-BD42-8DA4554F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06ED-F91E-4527-AE38-AC8FC957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2C3F7-FA99-40E4-A6EB-373C297F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F32C3-E08F-4E35-8D8A-42687EDF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99C6C-4069-44BE-BA5A-EB544036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37D49-65E8-4F2D-BF29-92FBF0AE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8BE32-3A42-45D5-B375-B1C89AE1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308CF-4812-4126-8FED-7291431D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21BAB-1B5A-464E-9066-4EBFDE13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7CBB8-7BC8-4CD1-961D-A12CE8B80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FB42A-7CC5-4AF4-B0D7-90641CA3C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5E2B0-D562-40ED-9926-57080F47A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199B-8968-4673-ACE2-8A03BCF8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1FE55-94E0-42F6-ABDD-86129520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8EF97-C8E1-4192-B7C9-A6267ECF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27951-2DCF-449C-8722-EB1A4672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014EF-1CA0-458A-8080-738111CD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C2B59-E8D1-462F-A9B3-F749208D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C2408-3884-4C4C-BF34-6D08BE1D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29ADC-9461-4287-AEA9-17E6A2B7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ECB55-4F5B-481A-B61F-58A15B0D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8C16F-4C4B-4DE8-B09F-A1A49EF4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BCEE7-C8D1-4095-B26F-A01CE42A3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433F-621E-497A-9E7D-30CB00B7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7029D-7D08-4E46-9B0B-F5BBA231F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4C137-E12E-4233-9314-435261672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6BE68-C9CF-428E-A282-B2BE6EDE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C9DD0-7891-4B3D-B11C-F5816D3B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48D97-A86A-45AA-89D5-FAC548A4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1FE0E-C83D-477E-B8C7-7E225C2E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DE750-793B-4A60-8B18-04A2B40C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5C790-2F3C-450C-9C67-8CC45ACE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0F25A-35EF-47EA-9902-CFDE0AD9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E0994-EDE5-4FD8-9A6E-79CBA65F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6819-77A0-4BC6-90A4-B068E6E3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1280D-53A7-4024-92E3-12867949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AB3DA-9B35-4EDE-B7C4-661150210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98B57-A8BA-473D-AB31-D0DD07E35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C00EE-E4DF-4CD9-98D9-E6B282CDD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8EB59-F020-403D-A05E-ECED827A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535B5-1B6B-4B2A-B8AA-6B896693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B49C9-EBF6-4984-8C71-908868DA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0DF2D-F434-4DCD-9AA6-B2E4E36E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DD708-2A88-4B59-89E9-5047D6B9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01C2C-E955-4889-9D00-D06F0E3A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3E1F-A8A7-4533-947E-5C627A9C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6F00C-FCF1-4E2D-B253-E0A34975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B7CBE-988C-4254-B75F-5BA41B7D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65B1F-819E-4F66-AE6A-6BE470E8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61DD3-7F04-4F55-A080-164682667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1F3DC-C1F1-459B-861A-6508B18DB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19F5-1460-4ECE-895E-5425C793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kąt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rostokąt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rostokąt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rostokąt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rostokąt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rostokąt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rostokąt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rostokąt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rostokąt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EAEC-5C38-40C8-AD4F-BD1A06972C18}" type="slidenum">
              <a:rPr b="0" lang="pl-P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rostokąt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rostokąt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rostokąt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rostokąt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rostokąt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rostokąt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rostokąt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rostokąt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rostokąt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48EF-EA05-453E-853F-36286E7DFC6D}" type="slidenum">
              <a:rPr b="0" lang="pl-P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rostokąt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rostokąt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rostokąt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rostokąt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rostokąt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rostokąt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rostokąt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rostokąt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rostokąt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Dowolny kształt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Dowolny kształt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Dowolny kształt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Dowolny kształt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Dowolny kształt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Dowolny kształt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Dowolny kształt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Dowolny kształt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Dowolny kształt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Dowolny kształt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Dowolny kształt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Dowolny kształt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Dowolny kształt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Dowolny kształt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Dowolny kształt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rostokąt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rostokąt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rostokąt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rostokąt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rostokąt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rostokąt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9A96-287B-4454-82BE-748E3EE559C1}" type="slidenum">
              <a:rPr b="0" lang="pl-P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952D-BB40-4212-B7C9-27DE752491BE}" type="slidenum">
              <a:rPr b="0" lang="pl-P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rostokąt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rostokąt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rostokąt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rostokąt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rostokąt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rostokąt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rostokąt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rostokąt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rostokąt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rostokąt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2B5D-35DD-44A5-A473-C40B89C61861}" type="slidenum">
              <a:rPr b="0" lang="pl-P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76A7-1AC6-449A-8540-710D13B5C7AF}" type="slidenum">
              <a:rPr b="0" lang="pl-P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rostokąt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rostokąt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rostokąt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rostokąt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rostokąt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rostokąt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rostokąt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rostokąt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rostokąt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rostokąt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Łącznik prosty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upa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Łącznik prosty 20"/>
            <p:cNvSpPr/>
            <p:nvPr/>
          </p:nvSpPr>
          <p:spPr>
            <a:xfrm>
              <a:off x="8578800" y="1217520"/>
              <a:ext cx="666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Łącznik prosty 23"/>
            <p:cNvSpPr/>
            <p:nvPr/>
          </p:nvSpPr>
          <p:spPr>
            <a:xfrm>
              <a:off x="8516880" y="1282680"/>
              <a:ext cx="939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Łącznik prosty 24"/>
            <p:cNvSpPr/>
            <p:nvPr/>
          </p:nvSpPr>
          <p:spPr>
            <a:xfrm flipV="1">
              <a:off x="8578800" y="1282320"/>
              <a:ext cx="666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upa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Łącznik prosty 26"/>
            <p:cNvSpPr/>
            <p:nvPr/>
          </p:nvSpPr>
          <p:spPr>
            <a:xfrm>
              <a:off x="8731800" y="1370160"/>
              <a:ext cx="666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Łącznik prosty 27"/>
            <p:cNvSpPr/>
            <p:nvPr/>
          </p:nvSpPr>
          <p:spPr>
            <a:xfrm>
              <a:off x="8669160" y="1435320"/>
              <a:ext cx="94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Łącznik prosty 28"/>
            <p:cNvSpPr/>
            <p:nvPr/>
          </p:nvSpPr>
          <p:spPr>
            <a:xfrm flipV="1">
              <a:off x="8731800" y="1434960"/>
              <a:ext cx="666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upa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Łącznik prosty 30"/>
            <p:cNvSpPr/>
            <p:nvPr/>
          </p:nvSpPr>
          <p:spPr>
            <a:xfrm>
              <a:off x="8383680" y="1473120"/>
              <a:ext cx="666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Łącznik prosty 31"/>
            <p:cNvSpPr/>
            <p:nvPr/>
          </p:nvSpPr>
          <p:spPr>
            <a:xfrm>
              <a:off x="8321760" y="1538280"/>
              <a:ext cx="939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Łącznik prosty 32"/>
            <p:cNvSpPr/>
            <p:nvPr/>
          </p:nvSpPr>
          <p:spPr>
            <a:xfrm flipV="1">
              <a:off x="8383680" y="1537920"/>
              <a:ext cx="666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E157-7BB4-4A6D-9BD3-7B974D6C29D8}" type="slidenum">
              <a:rPr b="0" lang="pl-P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eb80a"/>
                </a:solidFill>
                <a:latin typeface="Consolas"/>
              </a:rPr>
              <a:t>Urządzenia</a:t>
            </a:r>
            <a:r>
              <a:rPr b="0" lang="pl-PL" sz="40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pl-PL" sz="4000" spc="-1" strike="noStrike">
                <a:solidFill>
                  <a:srgbClr val="feb80a"/>
                </a:solidFill>
                <a:latin typeface="Consolas"/>
              </a:rPr>
              <a:t>przenośn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914400" y="1784160"/>
            <a:ext cx="7772400" cy="85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orbel"/>
              </a:rPr>
              <a:t>Jolanta Okarmu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ole tekstowe 3"/>
          <p:cNvSpPr/>
          <p:nvPr/>
        </p:nvSpPr>
        <p:spPr>
          <a:xfrm>
            <a:off x="5072040" y="5929200"/>
            <a:ext cx="407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orbel"/>
              </a:rPr>
              <a:t>Źródło:  </a:t>
            </a:r>
            <a:r>
              <a:rPr b="1" lang="pl-PL" sz="3000" spc="-1" strike="noStrike">
                <a:solidFill>
                  <a:srgbClr val="ffffff"/>
                </a:solidFill>
                <a:latin typeface="Corbel"/>
              </a:rPr>
              <a:t>Wikiped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21:51:21Z</dcterms:created>
  <dc:creator>KCE Krakowskie Centrum Egzaminacyjne</dc:creator>
  <dc:description/>
  <dc:language>en-US</dc:language>
  <cp:lastModifiedBy>Aka</cp:lastModifiedBy>
  <dcterms:modified xsi:type="dcterms:W3CDTF">2009-01-31T20:16:24Z</dcterms:modified>
  <cp:revision>69</cp:revision>
  <dc:subject/>
  <dc:title>Slajd 1</dc:title>
</cp:coreProperties>
</file>