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F071-E1C2-4D07-8A90-64B4A4AAF47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ymbol zastępczy numeru slajd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102B-04B9-44D0-AB89-FD91BCCCBF9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1CCB-3B36-4C3D-B71E-274703E04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0391-6117-449D-9510-C36656C8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79D4-25DB-4CDC-995C-62E7C698A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A253-D3D0-4D25-9EBB-56097C723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F314C-CF88-49C7-A80F-4961ADFD57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44969-6C61-4391-A66A-D124A450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BE09D-EDF4-4342-B9B0-D991DC5E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A1848-D114-4CE5-8F5B-F3605BA5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150B5-F2DB-4A5D-9107-41D17C28F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6F006-042F-48EA-8CC7-E1A2A4B08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1FE73-4C08-437A-BC5E-E741CF46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647D-B533-432D-9A9F-B50D6C79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FC3CE-4070-409C-8DC2-54ED192B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987BC-AB42-467B-9FE2-8D31EFA3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76F3F-87D5-4D26-AFF5-74C96D3D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C9467-F7DB-4AF3-9618-5E61A5E8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63CFE-018D-4404-B6F6-28E3CAFA7A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4453-6CB1-41E4-8578-88B9D1E2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C023-7D57-4630-9C4D-F8B716D8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CE5A-5B6F-4F89-A37B-2D83CF32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50A4-F60F-474E-8BEB-0468DC13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D7CD-89D9-4614-B096-A2769BE7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E9D6-C7F1-417D-A71D-A4247D8D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8600-AB54-41C6-B234-970C5FA4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ffff"/>
            </a:gs>
            <a:gs pos="100000">
              <a:srgbClr val="99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62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8080" indent="-362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8080" indent="-362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8080" indent="-362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Algorytm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ED57-B80B-4E25-8A6A-DF4A5002FC5A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ccffff"/>
            </a:gs>
            <a:gs pos="100000">
              <a:srgbClr val="99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62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8080" indent="-362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8080" indent="-362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8080" indent="-362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E7DB-EE03-46DB-BD06-CFEF171D8699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pl-PL" sz="6000" spc="-1" strike="noStrike">
                <a:solidFill>
                  <a:srgbClr val="003366"/>
                </a:solidFill>
                <a:latin typeface="Times New Roman"/>
              </a:rPr>
              <a:t>Algorytmy </a:t>
            </a:r>
            <a:br>
              <a:rPr sz="6000"/>
            </a:br>
            <a:r>
              <a:rPr b="1" lang="pl-PL" sz="6000" spc="-1" strike="noStrike">
                <a:solidFill>
                  <a:srgbClr val="003366"/>
                </a:solidFill>
                <a:latin typeface="Times New Roman"/>
              </a:rPr>
              <a:t>i algorytmika</a:t>
            </a:r>
            <a:br>
              <a:rPr sz="6000"/>
            </a:br>
            <a:br>
              <a:rPr sz="6000"/>
            </a:br>
            <a:br>
              <a:rPr sz="2000"/>
            </a:br>
            <a:endParaRPr b="1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14:14:10Z</dcterms:created>
  <dc:creator>KCE Krakowskie Centrum Egzaminacyjne</dc:creator>
  <dc:description/>
  <dc:language>en-US</dc:language>
  <cp:lastModifiedBy>Aka</cp:lastModifiedBy>
  <dcterms:modified xsi:type="dcterms:W3CDTF">2009-01-31T20:23:36Z</dcterms:modified>
  <cp:revision>63</cp:revision>
  <dc:subject/>
  <dc:title> Algorytmy  i algorytmika   Opracowanie: Teresa Szczygieł</dc:title>
</cp:coreProperties>
</file>