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DAFA-BE71-45C0-ADDE-3CF8BBF0DE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8FFB-9AE2-4AFD-BF4D-A8504CBCED32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86E-5BBF-4A19-9266-CBB70E40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9B7-004D-44A6-91A3-B89177E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A76-35F9-4C6D-80C1-59D40EE0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355-3B01-49F2-8F3B-95790A1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EE5D-6F89-47BC-8B7C-E3F0E5E4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3CB8-47FE-4468-8D66-30AF137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50DA-017A-438D-AB0C-E8896445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E816-2C95-40E7-9561-1D39F78B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5FD0-679F-4323-ACC3-0934118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3256-4436-4BF4-B633-9C26C7A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9C33-2C3F-4BC9-9B1D-BD83829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E70-0298-4F2E-9723-EA008425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98AC-91D5-4EDE-BBCE-C85AE5E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1DD-D79E-45AC-82B5-350C5B4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8843-86F9-45D0-B0BF-A27B2025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8F4A-DE27-4277-8ED9-B0C3C281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3A1E-DBE6-40E3-B58C-EF41F6A8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A436-C3F5-4418-A243-D9E9CE2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F1AE-EDD3-48A7-AA3E-84178503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75E7-6DB6-45CD-8E47-E61F63F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5D6D-C2A2-42E2-A866-4B495BA3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4FF0-2EE2-417C-BCF1-2F7E7448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B97-FC04-4490-94D0-BFC7CE5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30F2-C8FA-4A49-9797-C260BAC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109B-3900-43F6-BDD7-34D0742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70D8-904F-4CEF-A199-D0D48DB7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0426-C561-41AD-A972-B815815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37D0-FAC2-4FE1-99FE-D45C1966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45ED4-0E50-4EAA-9B9E-DA4DDE7C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A570-9F4F-400B-B0A5-823A95E5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F429-7E98-4C54-8418-A80E2301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4F39-6014-44B8-8D4F-144C54A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4015-E31E-4F4C-A413-F7854D6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101-7509-4921-B25A-71C4902E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0C92-025E-4ED6-92EB-C797AAC2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167F-B385-411A-A38D-AFADB7F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C7AF-437E-4833-8783-DA7AA7B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0BAC-97C3-4F74-8D4D-58FF194B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E8D4-C97D-4E19-8844-25386FA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CE627-1D5C-44FC-AF60-AA478C4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1BF9-9809-427D-8A12-69807D0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2861-5AA0-4D33-A637-161DB882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EC50-D2BB-4CB9-87FA-4A0A1ED0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3190-9104-4E1C-BE89-48CBF234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DC9-7093-40CA-94F1-66A7E0D6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C836-6231-4D21-A28B-417E99C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8C10-EFF9-4175-A3F7-16F0144B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E561-125E-4493-B003-770F48F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342A-374A-4258-90AE-1CC3F342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4E82-48A7-46B8-B083-78FFF9BC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3A79-2799-440F-B1DC-5CA6EA9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6F17F-D3EB-4954-A542-8939753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341D-6AC5-45B0-922C-4482D74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BE31-6419-4E1B-8A55-FBE8CF1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FCD9-B360-4E7B-8908-B2B3028A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0CD-9B27-4EE5-89BE-D8574ED2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672B-8EDF-43E4-A06B-ACB1BDAC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8EE14-BDF1-4D16-8427-F1D11D2D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226D-26FB-4587-8CE2-B34CD960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29AC-EFBB-403A-B59F-55F5182E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C6E8-041D-4D96-A09F-75EC10CF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1AED-58FA-4C9C-B8E4-A574DEB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4E98-3E01-45C6-97B3-B9BECFF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2E73-7801-425C-9602-E4E5F1D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5D00-E075-4DC5-8941-45C70D8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A6B7-7902-4EBB-8C3D-3623C61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3A1-6F4C-4A0A-ADD1-96008B5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54A5-7B22-48AF-8938-40D882CD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6534-3552-4096-8F4C-54B1A931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D1F39-0459-48ED-A792-68275364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CD952-E7EB-45F6-B3C0-DDBE74B8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101F-2188-4391-8944-AB23781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BBF6-562B-4BB8-A1D6-026AF31E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B449-9A31-4FF3-A1AA-64207CC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C3983-92A0-48CE-9C41-C64C7C5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DB64-922B-425A-AA72-640F0797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8A36-2B2F-45E9-B3DD-DAF8B0E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AB2-E5D3-49C9-A3E2-E07633A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22A4-D3C9-4432-B13D-700CBAB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7059-3F99-4983-99E1-D1B061D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FB11-17AA-44DC-A264-EC67973F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72DD8-09D9-40D3-ADA1-E9A81B8F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9140-7388-4E73-8674-B11B28E0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F86-009B-46BB-B93A-11556BE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562-DA9B-484F-BE3E-5EE9FD25AD78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8C3-E4B2-49E2-ACE3-0D85AF43FD25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Dowolny kształt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Dowolny kształt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Dowolny kształt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owolny kształt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Dowolny kształt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Dowolny kształt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owolny kształt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Dowolny kształt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owolny kształt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Dowolny kształt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Dowolny kształt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owolny kształt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Dowolny kształt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owolny kształt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DE92-C25F-43F0-9432-FCCD03B5E1DD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836-D1BC-41FA-A77B-499C6229EE31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4A29-D940-403A-BF9F-4939D4140F3C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D7D2-3699-4F74-B478-85A0D06E5444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up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Łącznik prosty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Łącznik prosty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Łącznik prosty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upa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Łącznik prosty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Łącznik prosty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Łącznik prosty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up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Łącznik prosty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Łącznik prosty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Łącznik prosty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8FE7-3051-424E-BD9D-5F7EE9711517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eb80a"/>
                </a:solidFill>
                <a:latin typeface="Consolas"/>
              </a:rPr>
              <a:t>Urządzenia</a:t>
            </a:r>
            <a:r>
              <a:rPr b="0" lang="pl-PL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pl-PL" sz="4000" spc="-1" strike="noStrike">
                <a:solidFill>
                  <a:srgbClr val="feb80a"/>
                </a:solidFill>
                <a:latin typeface="Consolas"/>
              </a:rPr>
              <a:t>przenoś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160"/>
            <a:ext cx="77724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Jolanta Okarm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ole tekstowe 3"/>
          <p:cNvSpPr/>
          <p:nvPr/>
        </p:nvSpPr>
        <p:spPr>
          <a:xfrm>
            <a:off x="5072040" y="592920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Źródło:  </a:t>
            </a: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51:21Z</dcterms:created>
  <dc:creator>KCE Krakowskie Centrum Egzaminacyjne</dc:creator>
  <dc:description/>
  <dc:language>en-US</dc:language>
  <cp:lastModifiedBy>Aka</cp:lastModifiedBy>
  <dcterms:modified xsi:type="dcterms:W3CDTF">2009-01-31T20:16:24Z</dcterms:modified>
  <cp:revision>69</cp:revision>
  <dc:subject/>
  <dc:title>Slajd 1</dc:title>
</cp:coreProperties>
</file>