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8541-764B-4A9C-8550-204D4F4ADBD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558D-C5D3-463E-80EE-A6458D4FDE7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73CC-2B79-4009-80FE-3914E9075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C92C-C48E-4CB3-80ED-B9DD93D6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AFFD-22D5-4A46-8F74-505FF1A6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FD4B-641B-496A-AD9A-D4826D40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EDC1F-3AEB-4D2C-B8D6-0B00813076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C0111-3C2D-4069-A856-9BDEB613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1DC30-E3D0-4DCF-8AEF-F51B3714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6EF0D-9E6E-498F-9DEC-DBCDA5A8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C47C5-9466-4C07-B06A-C8468EB7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84295-B865-4889-A8FF-6A179124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7CFF3-BABC-4F89-B8D6-325E6C58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14FB-DD93-4CC9-BA1D-1371D30B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6013A-F878-46CD-B692-4178F2C2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1BFDC-6CDA-4FEF-B069-15EA9B5B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3BA20-1858-4F92-B323-84CD866E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B7120-3175-473D-80A9-0BD38A07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44803-DD2D-4BAA-9794-5AFF222FD4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C128-D224-4BE0-9C91-CDDE522B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BE04-20A4-4138-B534-EFE4AE3A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6620-B506-4B22-8EFB-AB5F5ADA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68DF-74D5-4FA6-AE40-762DB2E0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7FE5-5337-44D0-9849-12D862B7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1863-8809-4337-872E-2E304CF3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52D2-A363-4FE4-88B1-D8B78E81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ffff"/>
            </a:gs>
            <a:gs pos="100000">
              <a:srgbClr val="99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62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8080" indent="-362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8080" indent="-362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8080" indent="-362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Algorytm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6180-D819-495A-A6ED-7A542BBEDBD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ffff"/>
            </a:gs>
            <a:gs pos="100000">
              <a:srgbClr val="99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62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8080" indent="-362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8080" indent="-362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8080" indent="-362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9E06-B1B0-4E93-8E92-5FE52D8783A8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pl-PL" sz="6000" spc="-1" strike="noStrike">
                <a:solidFill>
                  <a:srgbClr val="003366"/>
                </a:solidFill>
                <a:latin typeface="Times New Roman"/>
              </a:rPr>
              <a:t>Algorytmy </a:t>
            </a:r>
            <a:br>
              <a:rPr sz="6000"/>
            </a:br>
            <a:r>
              <a:rPr b="1" lang="pl-PL" sz="6000" spc="-1" strike="noStrike">
                <a:solidFill>
                  <a:srgbClr val="003366"/>
                </a:solidFill>
                <a:latin typeface="Times New Roman"/>
              </a:rPr>
              <a:t>i algorytmika</a:t>
            </a:r>
            <a:br>
              <a:rPr sz="6000"/>
            </a:br>
            <a:br>
              <a:rPr sz="6000"/>
            </a:br>
            <a:br>
              <a:rPr sz="2000"/>
            </a:br>
            <a:endParaRPr b="1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14:14:10Z</dcterms:created>
  <dc:creator>KCE Krakowskie Centrum Egzaminacyjne</dc:creator>
  <dc:description/>
  <dc:language>en-US</dc:language>
  <cp:lastModifiedBy>Aka</cp:lastModifiedBy>
  <dcterms:modified xsi:type="dcterms:W3CDTF">2009-01-31T20:23:36Z</dcterms:modified>
  <cp:revision>63</cp:revision>
  <dc:subject/>
  <dc:title> Algorytmy  i algorytmika   Opracowanie: Teresa Szczygieł</dc:title>
</cp:coreProperties>
</file>